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114-CC27-4A0F-A10E-4E557337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BC4-7FA6-4637-A47A-1E00B579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628-C938-4D54-AF26-6562E2C6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2F19-8841-4953-95E8-74F6E767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4BF6-1352-4CDC-BF13-70D426E3E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FC0E-9DCE-42E3-953E-53F0E13D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1375-AF9A-4D63-92C9-8AEEE1A4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0D43-A809-4C26-ADE4-38D7B8EA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3A8D-AA1E-44C8-A513-4DA034C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5C5-EE3F-42B1-98C2-C48BEF31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5965-99A5-4EC9-A558-D6A57D27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853-A6FF-4D54-B413-CD20A5E0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3271-212A-412F-AFEB-AC0A1501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9367-D389-4699-9856-06FEB5E9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419-21FB-4469-9177-2375C920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704F-01E6-490D-9F2C-983B89C2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3E8D-D40E-4A57-8013-C74F8531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5AA-7301-4704-9614-16AF4716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C2B-99DA-43F9-8E57-E3FE3AEC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C3F-D69D-4C69-9665-239800D9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E8D-B0C1-49C0-B421-BF760C51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6747-6848-406A-9055-378C9BC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004-7368-4865-8655-945773D7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7C5-3A04-4D73-A612-365882A7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563-3FD4-4E0A-8AB6-D63EDFA01205}" type="slidenum">
              <a:rPr b="0" lang="en-US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70C8-3958-44E9-85B8-EFDC42D91CFE}" type="slidenum">
              <a:rPr b="0" lang="en-GB" sz="1200" spc="-1" strike="noStrike">
                <a:solidFill>
                  <a:srgbClr val="898989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Тања Зечевић Луковић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1125000"/>
            <a:ext cx="744876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cc"/>
                </a:solidFill>
                <a:latin typeface="Times New Roman"/>
              </a:rPr>
              <a:t>РЕХАБИЛИТАЦИЈА</a:t>
            </a:r>
            <a:r>
              <a:rPr b="1" lang="en-US" sz="3600" spc="-1" strike="noStrike">
                <a:solidFill>
                  <a:srgbClr val="0033cc"/>
                </a:solidFill>
                <a:latin typeface="Book Antiqua"/>
              </a:rPr>
              <a:t> </a:t>
            </a:r>
            <a:r>
              <a:rPr b="1" lang="sr-CS" sz="3600" spc="-1" strike="noStrike">
                <a:solidFill>
                  <a:srgbClr val="0033cc"/>
                </a:solidFill>
                <a:latin typeface="Times New Roman"/>
              </a:rPr>
              <a:t>БОЛЕСНИКА СА СПИНАЛНИМ ЛЕЗИЈАМА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им за оспособљавање параплегичара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Неурохирург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Неуролог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Ортопед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Интерниста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Физијатар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Физиотерапеут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Медицинска сестра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сихолог, социјални радник, саветник за професионалну оријентацију..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Функционална класификациј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 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потпуна  сензомоторна лезија  дистално од места лезиј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 ин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сензибилитет делимично очуван, моторика потпуно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 ин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чувана моторика, али недовољна и некорисна за покрет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Book Antiqua"/>
              </a:rPr>
              <a:t>D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инкомплет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имају покрете, неки и ходају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 патолошки рефлекс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ДИЈАГНОСТИКА ПАРАПЛЕГИЈЕ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уролошки преглед 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1. неуролошка процена нивоа оштеће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2. степен  лезије кичмене мождине (комплетна)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0" lang="sr-CS" sz="2400" spc="-1" strike="noStrike">
                <a:solidFill>
                  <a:srgbClr val="ff3300"/>
                </a:solidFill>
                <a:latin typeface="Times New Roman"/>
              </a:rPr>
              <a:t>3. одређивање моторних и сензорних скоков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пунска испитива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1. радиолошка дијагностик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2. ЦТ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3.НМР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0" lang="sr-CS" sz="2400" spc="-1" strike="noStrike">
                <a:solidFill>
                  <a:srgbClr val="ff0000"/>
                </a:solidFill>
                <a:latin typeface="Times New Roman"/>
              </a:rPr>
              <a:t>4.уродинамска испитива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5300640"/>
            <a:ext cx="7437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Arial"/>
              </a:rPr>
              <a:t>Приказ стања одузетости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0" name="Picture 4" descr="hdc_0001_0003_0_img0192"/>
          <p:cNvPicPr/>
          <p:nvPr/>
        </p:nvPicPr>
        <p:blipFill>
          <a:blip r:embed="rId1"/>
          <a:stretch/>
        </p:blipFill>
        <p:spPr>
          <a:xfrm>
            <a:off x="1547640" y="1557360"/>
            <a:ext cx="635004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КЛИНИЧКА СЛИКА СПИНАЛНИХ ЛЕЗИЈА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80640"/>
            <a:ext cx="8362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 од степена оштећења и фазе у којој се параплегичар налази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Параплегија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 - потпуна одузетост ногу</a:t>
            </a:r>
            <a:br>
              <a:rPr sz="2400"/>
            </a:b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вадриплегија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 (тетраплегија) - потпуна одузетост и руку и ногу</a:t>
            </a:r>
            <a:br>
              <a:rPr sz="2400"/>
            </a:b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Парапареза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 - делимична одузетост ногу</a:t>
            </a:r>
            <a:br>
              <a:rPr sz="2400"/>
            </a:br>
            <a:r>
              <a:rPr b="1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вадрипареза</a:t>
            </a:r>
            <a:r>
              <a:rPr b="1" lang="sr-CS" sz="2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(тетрапареза) - делимична одузетост и руку и ног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ивои С лезиј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4: помера главу, дише дијафрагмално, тешко завистан у АДЖ. Зубима држи штапић за писање, телефонирање, окретање страница књиге, дувањем управља специјалним колицима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5: дијафрагмално дисање. Спец ортозама држи предмете, колица неопходна.Тежа зависност АДЖ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6: евентуално управља колицима са мануелним командама, уз ортозе држи прибор за јело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 7: служи се рукама, у колицима независтан; сам се облачи, чешља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ивои Т</a:t>
            </a:r>
            <a:r>
              <a:rPr b="0" lang="sr-Latn-CS" sz="4400" spc="-1" strike="noStrike">
                <a:solidFill>
                  <a:srgbClr val="000000"/>
                </a:solidFill>
                <a:latin typeface="Lucida Sans"/>
              </a:rPr>
              <a:t>h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лезиј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: Активни су ситни мишићи шаке, присутни сви МТР на рукама. Нема баланс у седећем, има сметње при дисању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2-6: смањен дисајни капацитет, колица непоходн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6: седи, боље дише, може се усправити уз помоћ ортоза. Не хода. Подизати због декубита и циркулације (двотактни ход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Нивои </a:t>
            </a:r>
            <a:r>
              <a:rPr b="0" lang="sr-Latn-CS" sz="4400" spc="-1" strike="noStrike">
                <a:solidFill>
                  <a:srgbClr val="000000"/>
                </a:solidFill>
                <a:latin typeface="Lucida Sans"/>
              </a:rPr>
              <a:t>L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зи</a:t>
            </a:r>
            <a:r>
              <a:rPr b="0" lang="sr-Latn-CS" sz="4400" spc="-1" strike="noStrike">
                <a:solidFill>
                  <a:srgbClr val="000000"/>
                </a:solidFill>
                <a:latin typeface="Lucida Sans"/>
              </a:rPr>
              <a:t>j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1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-L3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завистан, ауто на ручне команде, колица, ортозе, двотактни и 4 тактни ход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: стоји без ортоза и хода, гегаво због слабости глутеуса. Ортозе за колено.Тешко устаје из седећег и тешко хода уз степенице. Управља колима са ручним командам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5: раде 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DF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топала-ход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66cc"/>
                </a:solidFill>
                <a:latin typeface="Arial"/>
              </a:rPr>
              <a:t>ТОК ПАРАПЛЕГИЈЕ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6b9f25"/>
                </a:solidFill>
                <a:latin typeface="Times New Roman"/>
              </a:rPr>
              <a:t>1 ) хипотонија ( </a:t>
            </a:r>
            <a:r>
              <a:rPr b="0" lang="en-US" sz="2800" spc="-1" strike="noStrike">
                <a:solidFill>
                  <a:srgbClr val="6b9f25"/>
                </a:solidFill>
                <a:latin typeface="Book Antiqua"/>
              </a:rPr>
              <a:t>dijashisis</a:t>
            </a:r>
            <a:r>
              <a:rPr b="0" lang="ru-RU" sz="2800" spc="-1" strike="noStrike">
                <a:solidFill>
                  <a:srgbClr val="6b9f25"/>
                </a:solidFill>
                <a:latin typeface="Times New Roman"/>
              </a:rPr>
              <a:t> )</a:t>
            </a:r>
            <a:r>
              <a:rPr b="0" lang="ru-RU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lang="sr-CS" sz="2800" spc="-1" strike="noStrike">
                <a:solidFill>
                  <a:srgbClr val="002060"/>
                </a:solidFill>
                <a:latin typeface="Times New Roman"/>
              </a:rPr>
              <a:t>услед спиналног шока. Карактерише потпуном млитавом одузетошћу свих мишића испод места лезије, губитком сензибилитета за све квалитете испод места лезије, парализом бешике и дебелог црева и њихових сфинктера и немогућношћу вољног и рефлексног пражњења, парализом свих вегетативних функција са тешким трофичким поремећајима и развојем декубитуса. Траје 3-4 недеље до неколико месеци, или трајно 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6b9f25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6b9f25"/>
                </a:solidFill>
                <a:latin typeface="Times New Roman"/>
              </a:rPr>
              <a:t>2 ) спастичност </a:t>
            </a:r>
            <a:r>
              <a:rPr b="1" lang="sr-CS" sz="2800" spc="-1" strike="noStrike">
                <a:solidFill>
                  <a:srgbClr val="604878"/>
                </a:solidFill>
                <a:latin typeface="Times New Roman"/>
              </a:rPr>
              <a:t>– </a:t>
            </a:r>
            <a:r>
              <a:rPr b="0" lang="sr-CS" sz="2800" spc="-1" strike="noStrike">
                <a:solidFill>
                  <a:srgbClr val="604878"/>
                </a:solidFill>
                <a:latin typeface="Times New Roman"/>
              </a:rPr>
              <a:t>касније, најдаље у периоду од 6 недеља. Повећана је рефлексна активност очуване кичмене мождине испод места пресека. Појачани су МТР и тонус, рефлекси пражњења мокраћне бешике и дебелог црева и тонус флексор</a:t>
            </a:r>
            <a:r>
              <a:rPr b="0" lang="sr-CS" sz="28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новни циљеви рехабилитације болесника са спиналним лезијама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венција декубитус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ржавање обима покрета ( спречавање развоја контрактура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бољшање функције интактних мишића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матизација столице и мокраћне бешик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изање максималне независности у оквиру АДЖ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Times New Roman"/>
              </a:rPr>
              <a:t>КИЧМЕНИ СТУБ И КИЧМЕНА МОЖДИНА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907560"/>
            <a:ext cx="5760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чма се састоји 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33-34  пршљена, кичмене мождине и спиналних нерава. Нерви  носе информације од руку, ногу и других делова тела до мозга и обрнуто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-  7 цервикалних  ( </a:t>
            </a:r>
            <a:r>
              <a:rPr b="0" lang="en-US" sz="3200" spc="-1" strike="noStrike">
                <a:solidFill>
                  <a:srgbClr val="cc66ff"/>
                </a:solidFill>
                <a:latin typeface="Book Antiqua"/>
              </a:rPr>
              <a:t>C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cc66ff"/>
                </a:solidFill>
                <a:latin typeface="Book Antiqua"/>
              </a:rPr>
              <a:t>C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7 )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-  12 торакалних  ( </a:t>
            </a:r>
            <a:r>
              <a:rPr b="0" lang="en-US" sz="3200" spc="-1" strike="noStrike">
                <a:solidFill>
                  <a:srgbClr val="6b9f25"/>
                </a:solidFill>
                <a:latin typeface="Book Antiqua"/>
              </a:rPr>
              <a:t>Th</a:t>
            </a: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6b9f25"/>
                </a:solidFill>
                <a:latin typeface="Book Antiqua"/>
              </a:rPr>
              <a:t>Th</a:t>
            </a: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12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b9f25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-  5 лумбалних  ( 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1-</a:t>
            </a: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5)</a:t>
            </a:r>
            <a:br>
              <a:rPr sz="3200"/>
            </a:br>
            <a:r>
              <a:rPr b="0" lang="sr-CS" sz="3200" spc="-1" strike="noStrike">
                <a:solidFill>
                  <a:srgbClr val="ff3300"/>
                </a:solidFill>
                <a:latin typeface="Times New Roman"/>
              </a:rPr>
              <a:t>-  5 сакралних пршљенов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-  4 - 5 кокцигеалних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6" name="Picture 6" descr="Image"/>
          <p:cNvPicPr/>
          <p:nvPr/>
        </p:nvPicPr>
        <p:blipFill>
          <a:blip r:embed="rId1"/>
          <a:stretch/>
        </p:blipFill>
        <p:spPr>
          <a:xfrm>
            <a:off x="5867280" y="1484280"/>
            <a:ext cx="327672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азе рехабилитације параплегичара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кутна фаз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Фаза реактивирања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Фаза реинтеграције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Lucida Sans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)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КУТН</a:t>
            </a:r>
            <a:r>
              <a:rPr b="0" lang="sr-Latn-C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ФАЗ</a:t>
            </a:r>
            <a:r>
              <a:rPr b="0" lang="sr-Latn-CS" sz="4000" spc="-1" strike="noStrike">
                <a:solidFill>
                  <a:srgbClr val="000000"/>
                </a:solidFill>
                <a:latin typeface="Lucida San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000" y="856800"/>
            <a:ext cx="83516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ва помоћ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 -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еђени део кичменог стуба   у хиперекстензији (наглашено опружен 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утна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g i Th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рушка и конзервативн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(лежање 8 до 12 недеља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јална нег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 најважнија мера)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тидекубитус програм * програм мокраћне бешике * програм дебелог црев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позиционира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ружене размакнуте ноге у куковима и коленима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F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стопала; за руке раме 25 ст, лакат опружен, прсти семифлектирани, палац у опозициј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4716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Lucida Sans"/>
              </a:rPr>
              <a:t>II </a:t>
            </a:r>
            <a:r>
              <a:rPr b="0" lang="sr-CS" sz="4000" spc="-1" strike="noStrike" u="sng">
                <a:solidFill>
                  <a:srgbClr val="000000"/>
                </a:solidFill>
                <a:uFillTx/>
                <a:latin typeface="Arial"/>
              </a:rPr>
              <a:t>фаза реактивирања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928800"/>
            <a:ext cx="86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јална нег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 као у акутној фази,  позиционирање екстремитета код појаве спастичности )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инезитерапиј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пасивне вежбе за ДЕ , најмање 2 пута дневно са пуним обимом покрета (код парапарезе  активне и потп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гнуте вежбе)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активне вежбе са оптерећењем за ГЕ (максимално ојачати здраве мишиће екстемитета и трупа,  за ход уз помоћ помагала или вожњу инвалидских колица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* изометријске контракције паравертебралне мускулатур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115560"/>
            <a:ext cx="8002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прављање у почетку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ко осцилаторног стол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Book Antiqua"/>
              </a:rPr>
              <a:t>,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почетку  не  дуже од 1сата. У току   усправног става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</a:rPr>
              <a:t>могућ је  ЦВ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андажирање ДЕ због лезије симпатикуса и проширења вена ногу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ење, устајање, стајање у разбоју уз примену пластичних шина за ДЕ ( 3 до 5 часова дневно 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од помоћу апарата ( потколени, натколени ) код нижих нивоа лезије или штака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ука за коришћење инвалидских колиц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рапија радом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на ортотских средстав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ФИЗИКАЛНА ТЕРАПИЈА БОЛЕСНИКА СА СПИНАЛНОМ ЛЕЗ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2536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66cc"/>
                </a:solidFill>
                <a:latin typeface="Times New Roman"/>
              </a:rPr>
              <a:t>Кинези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Хидротерапија</a:t>
            </a:r>
            <a:r>
              <a:rPr b="0" lang="sr-C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Електротерапија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: </a:t>
            </a:r>
            <a:r>
              <a:rPr b="0" lang="sr-Latn-CS" sz="3200" spc="-1" strike="noStrike">
                <a:solidFill>
                  <a:srgbClr val="cc66ff"/>
                </a:solidFill>
                <a:latin typeface="Book Antiqua"/>
              </a:rPr>
              <a:t>EF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cc66ff"/>
                </a:solidFill>
                <a:latin typeface="Book Antiqua"/>
              </a:rPr>
              <a:t>SG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 , </a:t>
            </a:r>
            <a:r>
              <a:rPr b="0" lang="sr-Latn-CS" sz="3200" spc="-1" strike="noStrike">
                <a:solidFill>
                  <a:srgbClr val="cc66ff"/>
                </a:solidFill>
                <a:latin typeface="Book Antiqua"/>
              </a:rPr>
              <a:t>DDS</a:t>
            </a:r>
            <a:r>
              <a:rPr b="0" lang="sr-CS" sz="3200" spc="-1" strike="noStrike">
                <a:solidFill>
                  <a:srgbClr val="cc66ff"/>
                </a:solidFill>
                <a:latin typeface="Times New Roman"/>
              </a:rPr>
              <a:t> , </a:t>
            </a:r>
            <a:r>
              <a:rPr b="1" lang="sr-CS" sz="3200" spc="-1" strike="noStrike">
                <a:solidFill>
                  <a:srgbClr val="cc66ff"/>
                </a:solidFill>
                <a:latin typeface="Times New Roman"/>
              </a:rPr>
              <a:t>Е</a:t>
            </a:r>
            <a:r>
              <a:rPr b="1" lang="sr-Latn-CS" sz="3200" spc="-1" strike="noStrike">
                <a:solidFill>
                  <a:srgbClr val="cc66ff"/>
                </a:solidFill>
                <a:latin typeface="Book Antiqua"/>
              </a:rPr>
              <a:t>S</a:t>
            </a:r>
            <a:r>
              <a:rPr b="1" lang="sr-CS" sz="3200" spc="-1" strike="noStrike">
                <a:solidFill>
                  <a:srgbClr val="cc66ff"/>
                </a:solidFill>
                <a:latin typeface="Times New Roman"/>
              </a:rPr>
              <a:t>,</a:t>
            </a:r>
            <a:r>
              <a:rPr b="1" lang="sr-Latn-CS" sz="3200" spc="-1" strike="noStrike">
                <a:solidFill>
                  <a:srgbClr val="cc66ff"/>
                </a:solidFill>
                <a:latin typeface="Book Antiqua"/>
              </a:rPr>
              <a:t> IFS</a:t>
            </a:r>
            <a:r>
              <a:rPr b="1" lang="sr-CS" sz="3200" spc="-1" strike="noStrike">
                <a:solidFill>
                  <a:srgbClr val="cc66ff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Фото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Механо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Магнето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Радна терап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Ортотисањ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ремећаји код пара-квадриплегије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 бешик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 црев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спираторни поремећај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тостатска хипотенз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терморегулациј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таболичке промен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номна дисрефлекс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CS" sz="3600" spc="-1" strike="noStrike">
                <a:solidFill>
                  <a:srgbClr val="a088b7"/>
                </a:solidFill>
                <a:latin typeface="Arial"/>
              </a:rPr>
              <a:t>Декубитус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2500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најчешће на местима која су најизложенија притиску:  сакрални предео, предео великих трохантера, пете, седалне кости, чукљева и др . Могу и </a:t>
            </a:r>
            <a:r>
              <a:rPr b="0" lang="sr-CS" sz="2800" spc="-1" strike="noStrike" u="sng">
                <a:solidFill>
                  <a:srgbClr val="a088b7"/>
                </a:solidFill>
                <a:uFillTx/>
                <a:latin typeface="Times New Roman"/>
              </a:rPr>
              <a:t>за неколико сат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Инспекција, антидекубитални душек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a088b7"/>
                </a:solidFill>
                <a:uFillTx/>
                <a:latin typeface="Times New Roman"/>
              </a:rPr>
              <a:t>Изостају трофички импулси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! На том месту  недовољно је снабдевање ткива и мишића крвљу. Смањена је еластичност ткива испод коже, а мишић  је ослабљен и неотпоран на притисак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Остали узроци </a:t>
            </a:r>
            <a:r>
              <a:rPr b="0" lang="ru-RU" sz="2800" spc="-1" strike="noStrike">
                <a:solidFill>
                  <a:srgbClr val="a088b7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повишена температура, године старости, растезање крвних судова.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a088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Битни су </a:t>
            </a:r>
            <a:r>
              <a:rPr b="0" lang="ru-RU" sz="2800" spc="-1" strike="noStrike">
                <a:solidFill>
                  <a:srgbClr val="a088b7"/>
                </a:solidFill>
                <a:latin typeface="Times New Roman"/>
              </a:rPr>
              <a:t>: исхрана, дијабетес, лекови, анемија, </a:t>
            </a:r>
            <a:r>
              <a:rPr b="0" lang="sr-CS" sz="2800" spc="-1" strike="noStrike">
                <a:solidFill>
                  <a:srgbClr val="a088b7"/>
                </a:solidFill>
                <a:latin typeface="Times New Roman"/>
              </a:rPr>
              <a:t>инконтиненција...</a:t>
            </a:r>
            <a:r>
              <a:rPr b="0" lang="en-US" sz="2800" spc="-1" strike="noStrike">
                <a:solidFill>
                  <a:srgbClr val="a088b7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91520" cy="307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линичка слика декуби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оток, бол и црвенил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литка рана оштрих ивица ( захваћена је само кожа 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ивице ране постају бедемасте и подривене, јавља се серозни секрет у ра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роцес захвата мишиће и фасциј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захваћене и зглобне шупљин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357300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азе развоја декубитуса 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неманифестни декубитус – локално црвенил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или цијаноза, појава пликова, абразија кож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манифестни декубитус – површни и дубоки декубитус са некрозом или без ње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мпликације УГС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фекције УГС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јелонефритис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лкулоза,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суфицијенција бубрега..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еспираторни поремећаји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неумонија  (интеркостални Т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2-12, абдоминални Т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)- хипостазн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пирација секрета, дренажа, масажа, перкусија, вежбе дисања, окретање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921440" cy="20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sr-CS" sz="2200" spc="-1" strike="noStrike">
                <a:solidFill>
                  <a:srgbClr val="7030a0"/>
                </a:solidFill>
                <a:latin typeface="Times New Roman"/>
              </a:rPr>
              <a:t>Кичмена мождина (</a:t>
            </a:r>
            <a:r>
              <a:rPr b="0" lang="en-US" sz="2200" spc="-1" strike="noStrike">
                <a:solidFill>
                  <a:srgbClr val="7030a0"/>
                </a:solidFill>
                <a:latin typeface="Book Antiqua"/>
              </a:rPr>
              <a:t>medulla</a:t>
            </a:r>
            <a:r>
              <a:rPr b="0" lang="sr-CS" sz="22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7030a0"/>
                </a:solidFill>
                <a:latin typeface="Book Antiqua"/>
              </a:rPr>
              <a:t>spinalis)</a:t>
            </a:r>
            <a:r>
              <a:rPr b="0" lang="sr-CS" sz="2200" spc="-1" strike="noStrike">
                <a:solidFill>
                  <a:srgbClr val="7030a0"/>
                </a:solidFill>
                <a:latin typeface="Times New Roman"/>
              </a:rPr>
              <a:t> је део ЦНС смештен у кичменом каналу.  Споља беличасте боје и ваљкастог облика. Код човека је са кичменом мождином повезано 30 пари спиналних живаца помоћу дорзалних и вентралних коренова</a:t>
            </a:r>
            <a:r>
              <a:rPr b="0" lang="sr-CS" sz="22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997000"/>
            <a:ext cx="822960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Сива маса кичмене мождине садржи неуронска тела, и то </a:t>
            </a:r>
            <a:r>
              <a:rPr b="0" lang="sr-CS" sz="2200" spc="-1" strike="noStrike" u="sng">
                <a:solidFill>
                  <a:srgbClr val="ff66cc"/>
                </a:solidFill>
                <a:uFillTx/>
                <a:latin typeface="Times New Roman"/>
              </a:rPr>
              <a:t>асоцијативних неурона у задњим 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и </a:t>
            </a:r>
            <a:r>
              <a:rPr b="0" lang="sr-CS" sz="2200" spc="-1" strike="noStrike" u="sng">
                <a:solidFill>
                  <a:srgbClr val="ff66cc"/>
                </a:solidFill>
                <a:uFillTx/>
                <a:latin typeface="Times New Roman"/>
              </a:rPr>
              <a:t>мотонеурона у предњим 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стубовима. Распоред сиве и беле масе је обрнут у </a:t>
            </a:r>
            <a:r>
              <a:rPr b="0" lang="en-US" sz="2200" spc="-1" strike="noStrike">
                <a:solidFill>
                  <a:srgbClr val="ff66cc"/>
                </a:solidFill>
                <a:latin typeface="Book Antiqua"/>
              </a:rPr>
              <a:t>o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дносу на велики мозак</a:t>
            </a:r>
            <a:r>
              <a:rPr b="0" lang="en-US" sz="2200" spc="-1" strike="noStrike">
                <a:solidFill>
                  <a:srgbClr val="ff66cc"/>
                </a:solidFill>
                <a:latin typeface="Book Antiq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Сива маса на попречном пресеку има облик латиничног слова </a:t>
            </a:r>
            <a:r>
              <a:rPr b="0" lang="en-US" sz="2200" spc="-1" strike="noStrike">
                <a:solidFill>
                  <a:srgbClr val="ff66cc"/>
                </a:solidFill>
                <a:latin typeface="Book Antiqua"/>
              </a:rPr>
              <a:t>H</a:t>
            </a:r>
            <a:r>
              <a:rPr b="0" lang="sr-CS" sz="2200" spc="-1" strike="noStrike">
                <a:solidFill>
                  <a:srgbClr val="ff66cc"/>
                </a:solidFill>
                <a:latin typeface="Times New Roman"/>
              </a:rPr>
              <a:t> и образује један пар леђних и један пар трбушних рогова. Са леђних рогова полазе сензитивна, а са трбушних моторна нервна влакна, па се по изласку из кичмене мождине сједињују у заједнички нерв.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етаболички поремећаји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рактур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еркалцемија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утономна дисрефлексиј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к ТА, праћена главобољом, повраћањем, брадикардијом, знојењем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асност од конвулзија и 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IC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итични нивои изнад Т4-6. Импулс-од ураслог нокта, дистензије бешике и црева, калкулозе.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номија ВНС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ремећај терморегулациј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то је повреда виша адаптација је теж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над Тх 8 је немогуће одржати ТТ сталном (за загревање и за хлађење одговоран је ВНС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равак у оптималним микроклиматским условима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          </a:t>
            </a:r>
            <a:r>
              <a:rPr b="1" lang="sr-CS" sz="3200" spc="-1" strike="noStrike">
                <a:solidFill>
                  <a:srgbClr val="ff66cc"/>
                </a:solidFill>
                <a:latin typeface="Times New Roman"/>
              </a:rPr>
              <a:t>Аутоматизација столице и м. бешик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фази шока атонична мокраћна бешика  пуни и растеже . Због велике количине мокраће, долази до “ преливања “ и делимичног  невољног пражњења.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нинг: катетеризација (стална или интермитентна), клемовање,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red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o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упак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еме се постепено  продужава до 6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h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спирати физиолошким раствором!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утоном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краћ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ешик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0" y="2143080"/>
            <a:ext cx="4495680" cy="33130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хваћен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ферентн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ферентн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о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флексног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ук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ко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гулисана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хваљујући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рамуралном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англијском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у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solidFill>
            <a:srgbClr val="b26b0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Неинхибирана</a:t>
            </a:r>
            <a:r>
              <a:rPr b="0" lang="en-GB" sz="4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мокраћна</a:t>
            </a:r>
            <a:r>
              <a:rPr b="0" lang="en-GB" sz="4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ешика</a:t>
            </a:r>
            <a:r>
              <a:rPr b="0" lang="en-GB" sz="4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214200" y="2620800"/>
            <a:ext cx="4024440" cy="2835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12800" y="2065320"/>
            <a:ext cx="4830840" cy="45784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ај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ћ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лимичних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ез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ичме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жди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емиплег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умо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зг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ећај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к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чуван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тој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елик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гон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ринирањем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способност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хиби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трак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краћ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у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ег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зв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континенција</a:t>
            </a:r>
            <a:r>
              <a:rPr b="1" lang="en-GB" sz="2000" spc="-1" strike="noStrike">
                <a:solidFill>
                  <a:srgbClr val="000000"/>
                </a:solidFill>
                <a:latin typeface="Book Antiqu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пастич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мокраћн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ешика</a:t>
            </a:r>
            <a:r>
              <a:rPr b="0" lang="en-GB" sz="44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2428920"/>
            <a:ext cx="4386240" cy="3643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57800" y="1642680"/>
            <a:ext cx="4100400" cy="44528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оких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ез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кон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инал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ок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звиј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астицитет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краћ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л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личин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рин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азивају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крењ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ход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зорењ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пацитет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у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ичн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л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б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азм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кстерног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финктер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ест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кид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лу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икције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075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62028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 ЗА ДЕБЕЛО ЦРЕВО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ажњење црева вршити 2-3 пута недељно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оља компота сувих шљива у 21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мекиње, чај (бекунис )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?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позиторије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нисано време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ажњењ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 дебелог црева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иљ да пацијент (бар) у току дана буде сув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9280" y="620640"/>
            <a:ext cx="8280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Book Antiqua"/>
              </a:rPr>
              <a:t>ES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</a:rPr>
              <a:t> </a:t>
            </a:r>
            <a:r>
              <a:rPr b="0" lang="sr-CS" sz="2400" spc="-1" strike="noStrike" u="sng">
                <a:solidFill>
                  <a:srgbClr val="6b9f25"/>
                </a:solidFill>
                <a:uFillTx/>
                <a:latin typeface="Times New Roman"/>
              </a:rPr>
              <a:t>експоненцијалним струјам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позитивна и негативна елетрода површине 100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cm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се постављају параумбикално десно и лево, тако да им доње ивице допиру до симфизе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9f25"/>
                </a:solidFill>
                <a:uFillTx/>
                <a:latin typeface="Book Antiqua"/>
              </a:rPr>
              <a:t>ES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Times New Roman"/>
              </a:rPr>
              <a:t> </a:t>
            </a:r>
            <a:r>
              <a:rPr b="0" lang="sr-CS" sz="2400" spc="-1" strike="noStrike" u="sng">
                <a:solidFill>
                  <a:srgbClr val="6b9f25"/>
                </a:solidFill>
                <a:uFillTx/>
                <a:latin typeface="Times New Roman"/>
              </a:rPr>
              <a:t>интерферентним струјама</a:t>
            </a: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 ( </a:t>
            </a:r>
            <a:r>
              <a:rPr b="0" lang="en-US" sz="2400" spc="-1" strike="noStrike">
                <a:solidFill>
                  <a:srgbClr val="6b9f25"/>
                </a:solidFill>
                <a:latin typeface="Book Antiqua"/>
              </a:rPr>
              <a:t>IFS</a:t>
            </a:r>
            <a:r>
              <a:rPr b="0" lang="ru-RU" sz="2400" spc="-1" strike="noStrike">
                <a:solidFill>
                  <a:srgbClr val="6b9f25"/>
                </a:solidFill>
                <a:latin typeface="Times New Roman"/>
              </a:rPr>
              <a:t> 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– две електроде површине 100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cm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 се постављају лумбално, а две истих површина параумбикално десно и лево уз поштовање правила укрштања елетрода ради формирања поља интерференције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Експоненцијалне стр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су ефикасније у третману атоничних, а интерферентне струје у третману спастичних опстипациј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КИНЕЗИТЕРАПИЈА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981000"/>
            <a:ext cx="8218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незитерапија у фази имобилизације         кинезитерапија у фази мобилизациј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га дисајних путева и дисајне вежб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пасивна респираторна кинезитерап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рефлекторна кинезитерап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мобилизација секрет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обука искашљавањ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коришћење дренажних положа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005000"/>
            <a:ext cx="8364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4000" y="4365720"/>
            <a:ext cx="83628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1" name="Picture 4" descr="Пресек кичмене мождине"/>
          <p:cNvPicPr/>
          <p:nvPr/>
        </p:nvPicPr>
        <p:blipFill>
          <a:blip r:embed="rId1"/>
          <a:stretch/>
        </p:blipFill>
        <p:spPr>
          <a:xfrm>
            <a:off x="1500120" y="142920"/>
            <a:ext cx="7000920" cy="6000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0920" y="764640"/>
            <a:ext cx="8281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рективни положаји – положај на леђим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повређени део кичменог стуба : хиперекстенз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кук : екстензија са лаком абдукцијом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олено : пуна екстенз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кочни зглоб : дорзална флекс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рективни положаји – на бок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кукови и колена : између ногу се поставља јастук, горња нога је нешто иза задње, кукови и колена су у лакој флексији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топала : дорзална флекс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- ножни палац : екстенз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836640"/>
            <a:ext cx="82915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оња рука : флексија и растерећење са јастуком ( раме лежи у удубљењу између јастука и торакса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лакат : екстендиран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подлакат : супинац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шака, палац и прсти : као код положаја на леђим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горња рука : као код лежања на леђим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ебна пажња треба да буде усмерена на покрете флексије у куку. Уколико је лезија нижа утолико је и већа опасност од померања фрактурираних делова кичменог стуба.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III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фаза реинтеграције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0920" y="907560"/>
            <a:ext cx="8157960" cy="583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дукација чланова породиц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о мерама помоћи, психичка потпора, решавање проблема у сексуалној сфери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ације стана и др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 уклањање архитектонских баријера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фесионално обуча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за послове које могу обављати ( нпр. рад на компјутеру, телефонској централи, дактилографија, оператери.. 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елективно запошља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( параплегичари су у стању да раде пуно радно време у седећем положају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езбеђење саобраћајног средства и обучавањ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у коришћењу помоћу ручних команди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екарски надзор и праћење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Sans"/>
              </a:rPr>
              <a:t>ASIA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3300"/>
                </a:solidFill>
                <a:latin typeface="Arial"/>
              </a:rPr>
              <a:t>СКАЛА ОШТЕЋЕЊА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А – 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не постоји очуваност нити моторних нити сензитивних функција у сакралним сегментима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-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Б 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– ин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очуван је само сензибилитет испод неуролошког нивоа обухватајући и последње сакралне сегменте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cc"/>
                </a:solidFill>
                <a:latin typeface="Times New Roman"/>
              </a:rPr>
              <a:t>Ц </a:t>
            </a: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– ин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моторна функција је очувана испод неуролошког нивоа. Већина кључних мишића испод нивоа лезије је испод оцене 3 према ММТ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Д – инкомплетно оштећењ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моторна функција је очувана испод неуролошког нивоа. Већина кључних мишића испод неуролошког нивоа је за оцену 3 или већу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66cc"/>
                </a:solidFill>
                <a:latin typeface="Times New Roman"/>
              </a:rPr>
              <a:t>Е – нормалан налаз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( моторна и сензитивна функција су нормалне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200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ФУНКЦ ТЕСТОВИ </a:t>
            </a:r>
            <a:r>
              <a:rPr b="0" lang="sr-Latn-CS" sz="3600" spc="-1" strike="noStrike">
                <a:solidFill>
                  <a:srgbClr val="ff3300"/>
                </a:solidFill>
                <a:latin typeface="Lucida Sans"/>
              </a:rPr>
              <a:t>QIF i FIM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98100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5" name="Picture 4" descr="23a"/>
          <p:cNvPicPr/>
          <p:nvPr/>
        </p:nvPicPr>
        <p:blipFill>
          <a:blip r:embed="rId1"/>
          <a:stretch/>
        </p:blipFill>
        <p:spPr>
          <a:xfrm>
            <a:off x="1571760" y="642960"/>
            <a:ext cx="57862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77" name="Picture 4" descr="235a"/>
          <p:cNvPicPr/>
          <p:nvPr/>
        </p:nvPicPr>
        <p:blipFill>
          <a:blip r:embed="rId1"/>
          <a:stretch/>
        </p:blipFill>
        <p:spPr>
          <a:xfrm>
            <a:off x="2700360" y="189000"/>
            <a:ext cx="4824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9280" y="620280"/>
            <a:ext cx="820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Укупан број бодова на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QIF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skali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 је 200. Свака активност се бодује од 0-4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0" name="Picture 4" descr="LastScan899"/>
          <p:cNvPicPr/>
          <p:nvPr/>
        </p:nvPicPr>
        <p:blipFill>
          <a:blip r:embed="rId1"/>
          <a:stretch/>
        </p:blipFill>
        <p:spPr>
          <a:xfrm>
            <a:off x="539640" y="1700280"/>
            <a:ext cx="80280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89000"/>
            <a:ext cx="84358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ff66cc"/>
                </a:solidFill>
                <a:latin typeface="Book Antiqua"/>
              </a:rPr>
              <a:t>FIM ( Funkcional Indepedence Measure 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FIM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Book Antiqua"/>
              </a:rPr>
              <a:t>test</a:t>
            </a: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 обухвата 6 области у оквиру којих има 18 питања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Самозбрињав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исхран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лична хигијен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куп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облачење горњег дела одећ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облачење доњег дела одећ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тоалет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онтрола сфинктер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пражњење бешик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пражњење дебелог црев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I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Мобилност – трансфери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кревет, столица, колиц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тоалет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када,туш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IV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ход, колиц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степениц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V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разумевањ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изражавањ</a:t>
            </a: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r>
              <a:rPr b="0" lang="en-US" sz="2400" spc="-1" strike="noStrike" u="sng">
                <a:solidFill>
                  <a:srgbClr val="ff66cc"/>
                </a:solidFill>
                <a:uFillTx/>
                <a:latin typeface="Book Antiqua"/>
              </a:rPr>
              <a:t>VI </a:t>
            </a:r>
            <a:r>
              <a:rPr b="0" lang="sr-CS" sz="2400" spc="-1" strike="noStrike" u="sng">
                <a:solidFill>
                  <a:srgbClr val="ff66cc"/>
                </a:solidFill>
                <a:uFillTx/>
                <a:latin typeface="Times New Roman"/>
              </a:rPr>
              <a:t> Социјализација</a:t>
            </a:r>
            <a:r>
              <a:rPr b="0" lang="sr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Times New Roman"/>
              </a:rPr>
              <a:t>интереакција са околином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цена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M tes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87" name="Picture 7" descr="LastScan99"/>
          <p:cNvPicPr/>
          <p:nvPr/>
        </p:nvPicPr>
        <p:blipFill>
          <a:blip r:embed="rId1"/>
          <a:stretch/>
        </p:blipFill>
        <p:spPr>
          <a:xfrm>
            <a:off x="1214280" y="1500120"/>
            <a:ext cx="705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4920" y="1714680"/>
            <a:ext cx="836460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лу масу чине узлазна и силазна нервна влакна којима се проводе надражаји ка мозгу као и импулси од мозга ка разним органима. Њу чине аксони, односно нервна влакна помоћу којих се преносе нервни импулси из једног у друге делове кичмене мождине, а и у различите делове мозга.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4000" y="4365720"/>
            <a:ext cx="8362800" cy="17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b9f25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Оштећење кичмене мождине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Најтежи облик оштећења  је прекид кичмене мождине  због прелома или луксације кичмених пршљенова. Знатно ређе узрок су обољења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Испади  су увек испод места повреде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Настало оштећење ће зависити од </a:t>
            </a:r>
            <a:r>
              <a:rPr b="1" lang="sr-CS" sz="2400" spc="-1" strike="noStrike" u="sng">
                <a:solidFill>
                  <a:srgbClr val="6b9f25"/>
                </a:solidFill>
                <a:uFillTx/>
                <a:latin typeface="Times New Roman"/>
              </a:rPr>
              <a:t>нивоа </a:t>
            </a: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лезије-високе лезије ће дати квадриплегију </a:t>
            </a:r>
            <a:r>
              <a:rPr b="1" lang="en-US" sz="2400" spc="-1" strike="noStrike">
                <a:solidFill>
                  <a:srgbClr val="6b9f25"/>
                </a:solidFill>
                <a:latin typeface="Book Antiqua"/>
              </a:rPr>
              <a:t>/</a:t>
            </a: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 квадрипарезу, а ниже параплегију </a:t>
            </a:r>
            <a:r>
              <a:rPr b="1" lang="en-US" sz="2400" spc="-1" strike="noStrike">
                <a:solidFill>
                  <a:srgbClr val="6b9f25"/>
                </a:solidFill>
                <a:latin typeface="Book Antiqua"/>
              </a:rPr>
              <a:t>/</a:t>
            </a:r>
            <a:r>
              <a:rPr b="1" lang="sr-CS" sz="2400" spc="-1" strike="noStrike">
                <a:solidFill>
                  <a:srgbClr val="6b9f25"/>
                </a:solidFill>
                <a:latin typeface="Times New Roman"/>
              </a:rPr>
              <a:t> парапарезу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6" name="Picture 8" descr="EnglgrossELevelsofinjbearb"/>
          <p:cNvPicPr/>
          <p:nvPr/>
        </p:nvPicPr>
        <p:blipFill>
          <a:blip r:embed="rId1"/>
          <a:stretch/>
        </p:blipFill>
        <p:spPr>
          <a:xfrm>
            <a:off x="5715000" y="1214280"/>
            <a:ext cx="27860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a088b7"/>
                </a:solidFill>
                <a:latin typeface="Times New Roman"/>
              </a:rPr>
              <a:t>Етиологија параплегије</a:t>
            </a:r>
            <a:endParaRPr b="0" lang="en-US" sz="36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Times New Roman"/>
              </a:rPr>
              <a:t>Параплегија је </a:t>
            </a:r>
            <a:r>
              <a:rPr b="0" lang="sr-CS" sz="2800" spc="-1" strike="noStrike">
                <a:solidFill>
                  <a:srgbClr val="92d050"/>
                </a:solidFill>
                <a:latin typeface="Times New Roman"/>
              </a:rPr>
              <a:t>моторна и/или сензитивна одузетост доње половине тела узрокована спиналном лезијом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повреде кичменог стуба и кичмене мождине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бенигни и малигни тумори на неком делу кичме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васкуларна обољења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деловање вируса, бактеријских токсина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цисте,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обољења (трансверзални мијелитис 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2060"/>
                </a:solidFill>
                <a:latin typeface="Times New Roman"/>
              </a:rPr>
              <a:t>Механизам повреде најчешће нагла флексија (ређе екстензија</a:t>
            </a:r>
            <a:r>
              <a:rPr b="0" lang="sr-CS" sz="2800" spc="-1" strike="noStrike">
                <a:solidFill>
                  <a:srgbClr val="660033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Епидемиологија 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80 % је млађих од 45 година старост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80 % су мушкарц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36 % саобраћај, 35% повреде на раду (пад с висине), 29% спортске повреде (скок у воду, роњење), 13% рањавање из ватреног оружја, пад на стопала или седални део..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нос параплегије и квадриплегије је 1: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Подела спиналних лезија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b0f0"/>
                </a:solidFill>
                <a:latin typeface="Times New Roman"/>
              </a:rPr>
              <a:t>комплет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захватају цео попречни пресек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тпун прекид моторике и сенз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b0f0"/>
                </a:solidFill>
                <a:latin typeface="Times New Roman"/>
              </a:rPr>
              <a:t>инкомплет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: захватају део попречног      пресека, а моторика и сензибилитет су делимично очувани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вои к.м и пршљенова се не поклапају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вулнерабилнији: С 5-6, С 6-7,Т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12-</a:t>
            </a:r>
            <a:r>
              <a:rPr b="0" lang="sr-Latn-CS" sz="3200" spc="-1" strike="noStrike">
                <a:solidFill>
                  <a:srgbClr val="000000"/>
                </a:solidFill>
                <a:latin typeface="Book Antiqua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4T13:51:02Z</dcterms:created>
  <dc:creator>007</dc:creator>
  <dc:description/>
  <dc:language>en-US</dc:language>
  <cp:lastModifiedBy>Korisnik</cp:lastModifiedBy>
  <dcterms:modified xsi:type="dcterms:W3CDTF">2014-03-10T11:46:35Z</dcterms:modified>
  <cp:revision>112</cp:revision>
  <dc:subject/>
  <dc:title>ДИПЛОМСКИ РАД</dc:title>
</cp:coreProperties>
</file>